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2.png" ContentType="image/png"/>
  <Override PartName="/ppt/media/image19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2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5B0C-9F56-4176-8D86-3A4A6BCC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638-36D0-4435-B831-2D72FA68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BD08-7117-41F1-B102-E0C66BEB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001B-5EB6-4605-BC08-86D6DC18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D73F-F7DB-43AA-AD04-813157D6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27BB-BAF6-4782-80C3-EB0F1DCE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0623-F2A5-465A-A27F-861DFF6D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CF7C-1EF1-4740-9043-5F4682AF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12EB-4565-4D23-93A0-2E1CAC74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A329-4176-41DC-8D08-A7FAFCA9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0A88-8E84-4AB4-9E6D-086CEAB5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E40-7D11-488D-836D-84D8518F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FB16-3AD7-4A3A-BD62-55C0A071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315B-9799-441E-8184-E82C831F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D45F-9873-441D-9E15-76B7BC8F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F781-D58A-4744-B0CA-ABE7A69A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1C9C-F51E-43F9-8314-BC256E34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BFAF-7F2C-4648-9FAF-C732F02C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E680-8645-446F-866D-F3313A5C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0715-984F-4FC2-8A0E-B3EB2D57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0ACD-50A0-43F6-9819-2F8A177A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1908-49E9-449A-BE8F-94039640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3445-F044-492F-A9CF-D9C0DD11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539A-9D22-4FDC-BE46-031B9420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4758-3B2C-4699-86CF-45A96515669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815480" y="6628320"/>
            <a:ext cx="534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06 The McGraw-Hill Companies Inc. Permission Required for Reproduction or Display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4571-69EF-4B94-B48F-729D4485CD6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15480" y="6628320"/>
            <a:ext cx="534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06 The McGraw-Hill Companies Inc. Permission Required for Reproduction or Display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023840" algn="ctr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orpd.ucf.edu/newsletter/industrial.jpg&amp;imgrefurl=http://www.forpd.ucf.edu/newsletter/FLN200610.html&amp;h=757&amp;w=1045&amp;sz=120&amp;hl=en&amp;start=9&amp;um=1&amp;tbnid=DMBcEt14dFn68M:&amp;tbnh=109&amp;tbnw=150&amp;prev=/images%3Fq%3DIndustrial%2BRevolution%26svnum%3D10%26um%3D1%26hl%3Den%26rls%3DADBS,ADBS:2007-25,ADBS:en%26sa%3D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ndustry.siemens.com/hsm4mittal/images/8432_sic_automation_system.jpg&amp;imgrefurl=http://www.industry.siemens.com/hsm4mittal/Technologies/Basic_Automation_System.htm&amp;h=417&amp;w=390&amp;sz=39&amp;hl=en&amp;start=3&amp;um=1&amp;tbnid=xv5GpIGnFs8UMM:&amp;tbnh=125&amp;tbnw=117&amp;prev=/images%3Fq%3DAutomation%26svnum%3D10%26um%3D1%26hl%3Den%26rls%3DADBS,ADBS:2007-25,ADBS:en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hapter 18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king of Industrial Soc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59A5-EA19-4D4B-A140-891CA6AF1EFF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Overview: Unexpected Costs of the Industrial Revolution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enesis of an environmental catastroph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tellectual origins of human domination over natural resour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nforeseen toxins, occupational hazar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cial il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andless proletari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igrating work for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E713-6ED7-4122-B93C-9609481896E0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Genesis of the Industrial Revolution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reat Britain, 1780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llowed agricultural revolu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od surplu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isposable incom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opulation increa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arke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abor suppl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4C03-B2FA-4AAA-AA93-24816362615B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British Advantag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rong banking tradi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atural resourc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al, iron o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ase of transport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ze of count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iver and canal syste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ports to imperial colon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sp. machine texti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130A-845A-44D0-B8E6-14F33FED1FCD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otton-producing Technolog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lying shuttle doubled weaving output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ithout doubling supply of yar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pinning jenny (1768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creased supply of yarn, faster than flying shuttle could proce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ower loom (1787) met supply of yar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43600" y="4572000"/>
            <a:ext cx="2585880" cy="20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BE9-1751-4750-B45A-B859287AE997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Growth of Factori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ssive machine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upply of labo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ansport of raw materials, finished product to marke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centration in newly built factory towns on riv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508-4653-48D3-865D-71CA961D55B2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New Sources of Power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73120" y="1600200"/>
          <a:ext cx="380664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1600200"/>
                    <a:ext cx="380664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team Engin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James Watt (1736-1819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al fire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pplied to rotary engine, multiple applicat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760:  2.5 million pounds of raw cotton import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787: 22 mill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840: 360 mill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678C-96C7-470C-8F7A-6BE3293AD96F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Implications: Slave Labor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heap cotton from American sout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enefit of transatlantic slave trad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rony: early British abolitionism, yet profit motive retain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724280" y="3429000"/>
            <a:ext cx="3124440" cy="27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C44B-4949-43E4-9742-CD98ADED596A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Iron Industry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enry Cort devises method of refining iron ore (1780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rst major advance since middle ag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852 produces more high-quality iron than rest of world combin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ynergy with increasing technological developme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A8C-5A5E-4207-AF61-D94D9304AA35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Rail Transpor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804 first steam-powered locomotiv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pacity: Ten tons + 70 passengers @ 5 mp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Rocket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from Liverpool to Manchester (1830), 16 mp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ipple effect on industrializ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ngineering and architect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B2AC-2C3B-442F-8BA3-4E14BEB9155F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Factory System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arly modern Europe adopts “putting-out” sys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dividuals work at home, employers avoid wage restrictions of medieval guil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ising prices cause factories to replace both guilds and putting-out sys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chines too large, expensive for home u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arge buildings could house specialized labor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rbanization guarantees supply of cheap unskilled labo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440B-9E9B-430B-B664-F18C8E447577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 u="sng">
                <a:solidFill>
                  <a:srgbClr val="ffffff"/>
                </a:solidFill>
                <a:uFillTx/>
                <a:latin typeface="Garamond"/>
              </a:rPr>
              <a:t>The Industrial Revolu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81680" cy="45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C44-B353-470E-BECD-AF5F45ACE0C1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Poor working condition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ramatic shift from rural work rhythm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 days a week, fourteen hours a da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mmediate supervision, punishme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uddite” Protest against machines 1811-1816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ame from legend about boy named Ludlam who broke a knitting fram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eader called “King Lud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sked Luddites destroy machinery, enjoyed popular suppor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4 Luddites hung in 1813, movement dies ou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EFDD-B65C-45A8-8456-161C4329F3D8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ffff"/>
                </a:solidFill>
                <a:uFillTx/>
                <a:latin typeface="Times New Roman"/>
              </a:rPr>
              <a:t>Labour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organized strikes to protest work condition and wage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Unions were illegal until the latter part of the 19th century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- The actions of workers almost always led to violenc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3124080" cy="273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EA6D-0218-4590-A256-A615748B2708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pread of Industrializa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velopment of technical schools for engineers, architects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overnment support for large public works projects (canals, rail system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preads throughout Germany under Bismarc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F887-3603-4ED6-A175-B7E5650BCB4C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Industrial Europe ca. 1850 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20800" y="1600200"/>
            <a:ext cx="57006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EC7D-7B68-4C36-B8CF-D18E322C72D9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Mass Produc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li Whitney (U.S., 1765-1825) invents cotton gin (1793), also technique of using machine tools to make interchangeable parts for firearm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American system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pplied to wide variety of machin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enry Ford, 1913, develops assembly line approa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mplete automobile chassis every 93 minu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eviously: 728 minu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56A-DCF6-4B28-95CF-1C0E99262CE7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Industrialization in the United States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800 US agraria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opulation 5 mill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o city larger than 100,0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6/7 Americans farm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860 US industrializ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opulation 30 mill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ine cities 100K +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½ Americans farm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A613-81F9-4B82-AAFA-DC37509A3EDA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Factory Discipline (Berlin, 1844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orkday: 6 am to 7 p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 hours total for meal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ateness: 2 minutes fined ½ hour pay, more than 2 minutes partial shif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versation prohibit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se of toilets mandato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F9C-5930-4580-9021-E91F717057FA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Proletari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ack of clear distinction from cottage indust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cologically disastrous condi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al min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ave-i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xplos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olluta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632C-9FE5-4D22-A210-1F6F62D1F9A3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Distribution of Wealth in the U.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87240" y="1600200"/>
          <a:ext cx="77677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600200"/>
                    <a:ext cx="77677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A637-C630-4211-AC9A-F796FCF5D224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Industrial Middle Clas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ew class, evolved from guild merchants in cit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ourgeoisie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pitalis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egin to eclipse power and status of agrarian landed class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58A-0DAF-4647-8F5A-4519D0367C26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99"/>
                </a:solidFill>
                <a:latin typeface="Garamond"/>
              </a:rPr>
              <a:t>Agricultural Revolu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Times New Roman"/>
              </a:rPr>
              <a:t>Think/Pair/Sha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Question:  What were key points concerning the Agricultural Revolution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Why was Britain first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Times New Roman"/>
              </a:rPr>
              <a:t>What were the Enclosure Acts and why were they significant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30920" y="4343400"/>
            <a:ext cx="1990800" cy="21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F91E-1F44-47CB-8E07-79790BC6A794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Big Busines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arge factories require start-up capita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rporations formed to share risk, maximize profi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ritain and France lay foundations for modern corporation, 1850-1860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vate business owned by hundreds, thousands or even millions of stockhold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vestors get dividends if profitable, lose only investments in case of bankruptc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81B9-F9BF-4BBD-A385-26BA101D7083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Monopolies, Trusts, and Cartel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arge corporations form blocs to drive out competition, keep prices hig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John D. Rockefeller controls almost all oil drilling, processing, refining, marketing in U.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German IG Farben controls 90% of chemical produc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overnments often slow to control monopol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217F-D136-44E7-B441-7384FDE67055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Fruits of Industrializa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chnological innov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mproved agricultural tool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heap manufactured goo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specially texti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avel and transport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3463-76BD-4880-B858-A4A60E777691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Population Growth (millions)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F75-E3FE-4EF5-8FBB-133167883344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Demographic Transi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dustrialization results in marked decline of both fertility and mortal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sts of living increase in industrial societ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rbanization proceeds dramaticall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800: only 20% of Britons live in towns with population over 10,00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900: 75% of Britons live in urban environme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D184-3A56-4428-BC30-B2BA1ABDD2FE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ontracep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ncient and medieval method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gypt: crocodile dung deposito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sia: oral contraceptives (mercury, arsenic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lsewhere: beeswax, oil paper diaphragm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omas Malthus (1766-1834) predicts overpopulation crisis, advocates “moral restraint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doms invented in Englan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de from animal intestines in 17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century, latex in 19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centu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4816-EE2A-46E6-A5B3-EC4D18772AE0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Development of Slum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ondon: 1 million in 1800, 2.4 million in 185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ealthy classes move out to suburb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dustrial slum areas develop in city cent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pen gutters as sewage system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nger of Chol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rst sewage systems, piped water only in 1848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2C3B-19D2-4ABE-8A4C-F7EDC0F9A3D3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ranscontinental Migration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early 20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enturies, rapid population growth drives Europeans to Americ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50 million cross Atlanti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ritons to avoid urban slums, Irish to avoid potato famines of 1840s, Jews to abandon Tsarist persecu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nited States favored destin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3083-5F39-4F05-9D82-5AEF7D7DF181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New Social Classe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conomic factors result in decline of slave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pitalist wealth brings new status to non-aristocratic famil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ew urban classes of professiona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lue-collar factory work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rban environment also creates new types of divers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porting eve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DF75-5223-4C6C-A0C1-C1B1B2041E80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Women in the Workforc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gricultural, cottage industry work involved women: natural transi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ut development of men as prime breadwinners, women in private sphere, working cheap labo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ouble burden: women expected to maintain home as well as work in indust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lated to child labor: lack of day care facil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2761-5B4F-41F2-BB4B-88F063DC22F8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663120"/>
            <a:ext cx="8229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ree Stages of the Industrial R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chanization - 1750 - 1920 - Introduction of mach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2) Mass Production - 1920 - Ordering of machines.  Goods moved on an assembly line.  Henry Ford got credit for this method of production that increases quantity and qu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3) Automation - replacing workers with machines, they tried to get rid of people completely to increase quality.  The use of robots and computers are impleme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4) De-industrialization - not sure if this stage exi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41C-FE26-4348-87FD-303C668F7CDC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hild Labor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asily exploit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 wages: 1/6 to 1/3 of adult male w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discip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dvantages of siz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al tunn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thering loose cotton under machin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tton industry, 1838: children 29% of workfor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actory Act of 1833: 9 years minimum working a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334120" y="380880"/>
            <a:ext cx="2361960" cy="1430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629400" y="2057400"/>
            <a:ext cx="208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2EB1-7AC9-41F2-91CF-E61858FC3116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5562720" cy="55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295-D556-4C90-8C13-19CB9470F889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Reaction to the Industrial Revolution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ffff"/>
                </a:solidFill>
                <a:uFillTx/>
                <a:latin typeface="Times New Roman"/>
              </a:rPr>
              <a:t>Gov't Investigation and Law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Factory Act 1833 - limited the hours and ages of worker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Coal Mines Regulation Act 1842 - banned the use of women and children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(Britain)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FC42-1EA1-4194-A43F-ADEFA4955661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Socialist Challenge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cialism first used in context of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Utopian Socialist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harles Fourier (1772-1837) and Robert Owen (1771-1858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pposed competition of market sys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ttempted to create small model communit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spirational for larger social uni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E0D7-FC52-453C-B04B-7558E5074B59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ffff"/>
                </a:solidFill>
                <a:uFillTx/>
                <a:latin typeface="Times New Roman"/>
              </a:rPr>
              <a:t>The Chartists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- wanted to create a charter to protect righ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Universal suffrage for all me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- Guarantee of certain righ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- Paid politicians: means an average person who is committed would become a politician because by being paid they could surviv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B41C-A1F5-496D-B0E2-BF20DAFF416E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3160" y="3049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9900"/>
                </a:solidFill>
                <a:uFillTx/>
                <a:latin typeface="Times New Roman"/>
              </a:rPr>
              <a:t>Utopian Philosoph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9900"/>
                </a:solidFill>
                <a:latin typeface="Times New Roman"/>
              </a:rPr>
              <a:t>Louis Blanc - idolized the socialist stat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9900"/>
                </a:solidFill>
                <a:latin typeface="Times New Roman"/>
              </a:rPr>
              <a:t>Robert Owen - New Lanark/New Harmon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181480" y="3124080"/>
            <a:ext cx="2467080" cy="2752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2114280" cy="28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4A72-BBB6-47EF-8D5E-F9A1FA029C49}" type="slidenum">
              <a:t>45</a:t>
            </a:fld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Karl Marx (1818-1883) and Friedrich Engels (1820-1895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wo major classes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apitalists, who control means of produc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oletariat, wageworkers who sell labo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ploitative nature of capitalist syst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ligion: “opiate of the masses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rgued for an overthrow of capitalists in favor of a “dictatorship of the proletariat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238880" y="1371600"/>
            <a:ext cx="1706760" cy="2286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80880" y="5257800"/>
            <a:ext cx="905040" cy="13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D15F-E662-431A-921C-9153192C6D26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Social Reform and Trade Union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ocialism had major impact on 19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century reform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duced property requirements for male suffra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ddressed issues of medical insurance, unemployment compensation, retirement benefi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ade unions form for collective bargain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trikes to address workers’ concer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B95-753B-4BE5-945E-C72014812688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Industrialization in Russia and Japa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lower starts on industrial proces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ussia constructs huge railway network across Siberia under finance minister Count Sergei Witt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Japanese government takes initiative by hiring thousands of foreign exper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forms iron indust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pens universities, specializing in science and technolog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40C0-4102-4E10-88A4-50AC2ADE7DB9}" type="slidenum">
              <a:t>48</a:t>
            </a:fld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Global Ramification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lobal division of labo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ural societies that produce raw material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rban societies that produce manufactured goo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neven economic developme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veloping export dependencies of Latin America, sub-Saharan Africa, south and south-east Asi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ow wages, small domestic marke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F551-6288-4187-BD1F-CCB8807E1041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Mechanization 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828800"/>
            <a:ext cx="4952880" cy="359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7EBE-4A67-4D6B-8852-C8B105059E7D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60093"/>
                </a:solidFill>
                <a:latin typeface="Garamond"/>
              </a:rPr>
              <a:t>Mass Produc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4114800"/>
            <a:ext cx="8381880" cy="2533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3705120" cy="2562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029200" y="1143000"/>
            <a:ext cx="3543480" cy="28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72A6-9381-409B-866B-6DAD43DB312A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00"/>
                </a:solidFill>
                <a:latin typeface="Garamond"/>
              </a:rPr>
              <a:t>Automation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990720"/>
            <a:ext cx="2054160" cy="2195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80880" y="335268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495680" y="2133720"/>
            <a:ext cx="4343400" cy="350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B2A2-7027-4E48-9ADC-6CBAA30ACC36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Overview: The Industrial Revolution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nergy: coal and steam replace wind, water, human and animal labo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rganization: factories over cottage industr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ural agriculture declines, urban manufacturing increas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ansportation: trains, automobiles replace animals, watercraf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AA03-679E-4288-B3C2-ECC7D841274A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aramond"/>
              </a:rPr>
              <a:t>Overview: Creation of New Classes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Industrial Middle Clas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rban Proletari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ift in political pow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spiration for new political systems, esp. Marxis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95A7-9F18-4886-8950-0D1A315B9690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5:32:56Z</dcterms:created>
  <dc:creator>Henry Abramson</dc:creator>
  <dc:description/>
  <dc:language>en-US</dc:language>
  <cp:lastModifiedBy>ripkensa</cp:lastModifiedBy>
  <dcterms:modified xsi:type="dcterms:W3CDTF">2010-02-08T16:10:06Z</dcterms:modified>
  <cp:revision>9</cp:revision>
  <dc:subject/>
  <dc:title>Chapter 30</dc:title>
</cp:coreProperties>
</file>